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2B46-29A9-4FD3-A0C8-D6B8DC12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F3EA-B710-461E-922B-2AA85F45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0C7F9E-1F53-4B11-BDA4-2645A7A3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B7389C-5D30-46C5-BD6D-1999A2F9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F8359A-9D42-47AD-AE60-32CD2242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44202C-D4EB-45FE-AEBD-6B53EE2A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1676EE-E69C-407F-89FC-3429A15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C0EF84-2831-41C4-A49E-50A55097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9EE8C1-D31A-42B7-B7EB-5D278B1E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582456-55CD-4C19-B835-99902770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1EF80D-B1A5-4B17-80DE-20DB0873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B02902-A2FF-4E1E-BF5B-8D65B3E4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A2BA-F3A5-496F-8F1D-9D7AE6D5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1F1462-F77C-49CC-8CE1-5B92E05E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BB9EED-BE5A-4350-997F-A59E3A45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E04C8B-B94B-4FC9-8E19-0E157111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0E2FF8-3CAB-4997-8F0F-C7DBAE00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E6B524-591D-48F6-862A-4407F182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B39681-489A-4F6C-BDFE-3B945AE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CBE232-76CC-4397-B12B-B908500A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CE616D-957C-429C-9C34-89F774A6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574D08-A73F-4FDF-BA0C-CF10E374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A79B46-8C2F-44E2-AF6D-EB235FD2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929B-AB22-41AB-A9CA-C58F5601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69F0E7-0EE7-4295-82D0-F493E673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F939DD-E5F2-4618-8D82-9F04C72B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8DBB30-59DD-477E-A06F-6F01FD3E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804987-1C1F-47E3-A469-8EBF8AC4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9B80F7-73A0-4299-B305-A681653C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473599-717A-4B9E-9ECC-6BAC1741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9F665F-BE4E-425E-84A1-D6568E8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501C09-89E0-4197-A4E9-D8474E59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485712-9048-4790-B39B-9A29A73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AC651F-CA6D-4A49-82B8-7D4AAD4A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61AD6-953F-44E8-B52A-1C334D62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B51B19-D6E8-442E-A5C5-D10B938F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77DB06-7D6F-41AF-825C-E14D83FF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7B7B7A-17DB-434F-8982-55EA6700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A83C8D-5C24-4952-9553-23AF23AB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6C6847-DF05-4D77-9041-F2B41628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4B7F73-60D3-4422-B9C2-869D366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87D594-35DC-4C7A-B260-46F8D40D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F7770F-AFFF-4DEA-A67B-132C741A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AFA3A5-2C11-443B-AAA7-DA574A4E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BDCC81-1E4F-4C6C-B6FC-3EE4C8AC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75C17-1D6F-4D27-8B30-E0AEC91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1102EC-3005-4A4D-B62F-DD4BC9FB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5246FB-14EC-4D45-B28A-9D81EA4F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6A9950-9B8E-4811-B745-7617FBE0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E026FA-7BB2-4628-8492-772DF2A9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13385F-A3DD-447E-8319-4E7CE129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66E757-281D-4839-BB9A-AC7CE5AA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D9E54F-0C01-4387-AFC7-FC18F3F5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25EB93-12A4-45F8-BE65-AAFD9829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BB75EF-E6F7-40F2-9E12-C582CFE3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06598B-CDDF-4DFE-AA6F-E4DE85D3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FC2D6-6438-4399-8EAA-49EFC47D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C112E7-213C-410A-8E3D-3FCD3EE1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45AEBE-6FCB-40B3-BAAF-C98DCA93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F97B0B-86FB-4502-964F-A63E131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4EAE0D-86A3-4493-A2B0-AE91A6BB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851E24-B0F1-4C3F-A971-B7B13616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1BAFA9-6A67-4C3E-ACB2-0D11434D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155674-7AEE-4B69-9A3C-C7367B5A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E7D9E-B08F-42A8-A67F-676A0EBC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BFD9C-B415-4FB1-952E-D89E078A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1EBB9-C27D-4F49-BAA9-BB6EC665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139A3-FF7F-408F-A30F-6E3B88A0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2D882-FFE1-4110-9EAB-A1BBF2C9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E0E87-7CE1-44D5-92F4-A344C0D3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1F7A1-9091-4959-BCFD-9F888D55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76FAC-1EC8-4D53-8665-0229D8B2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D9756-53A8-458D-8AE6-B4C63718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53FAF-5CA3-4506-9811-78CF1924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BFBC3-4043-4691-84D7-8B1AA786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B39B4-DC68-4669-B9FF-22C815B4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766F9-02BE-4852-9057-2B3350EC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DB516B-32B6-47E3-A4FC-78837CF2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9AF66-AA4E-404D-B360-62DEC528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5D7E9B-084B-4CD2-A17C-E53125F9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F7D004-185D-40CC-8015-8897118D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C3E8DF-ADFF-4F7C-974D-8EED35E9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684159-16B6-40EC-8233-9C9093BA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DA18B5-6E83-46F9-B3E0-ED98ACA5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5FEBFC-A866-493D-825B-0BC8FCD3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47DA13-2319-479B-825E-FB560BF7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DDEB0C7-5553-4C53-9C6C-0350B5CA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0C797E-C583-42B7-8120-1BFAF7BD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260A98D-B7ED-4555-9295-65CEFF34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15DA6-C786-46B9-A9E8-B8735EDE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DA81653-4E5A-4233-A5FA-B70A9063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08417-64F4-460E-B5AF-95FBC373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E349-ED0A-4971-8126-CEB5B498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8A5AC-842C-41CA-8376-A167C4D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C26E1-0658-49D3-AE26-9D8AD52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1EBC2-F9D0-466F-8234-3D13C376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65D41-BD30-4A04-9BDF-79890FD9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5E2BD-E81F-4067-ACC6-40A25E0E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3591E-4FD6-4311-9CC4-8D304CFC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781F-7D31-4F55-96B2-BE5AE883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8863-D843-479B-9762-061FAE6C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2848-6DDA-4BFB-8376-55D65595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6241-EEC1-4EC5-8838-D404540D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E263-37C2-415D-AA37-B32B1363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0131-816C-49C4-8F89-FCC43C1B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874F-D2D9-4BF3-9947-030034B5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D6CC-8CFE-48D6-AA10-2AECAECA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04A95-9215-4042-98D4-DC9BD1A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804F-1C37-485F-B344-34FAE8C8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2B57-E8D0-4905-9819-B6E7F365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06A83-0335-452B-8570-8ECE9F49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4985D-E529-4A1C-AC12-5DF9DA7E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7E520-F132-4395-88B7-C3135C6A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A322E-B76D-4D55-B4F2-AB6286D3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B98B-2ADB-45DD-B228-7D2236A4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06FC6-A1C0-48D6-AF7A-18845096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33E31-9CDF-45C3-B90D-275B50ED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EA8D1-47AE-4E28-9B32-C77955C1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6F34A-189E-4D0A-B6EF-1924CEE5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B86B8-B355-4AC7-8BC5-04360B6F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0FAEF-EE03-4401-884F-B0E6C454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F3839-052C-49D4-9C77-87752BD7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25604-AEB1-47E5-A0D1-C9CDF886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122A4-5AAD-4EFC-B6B7-7B929A90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B2D57-F6D8-4EC6-B749-D604F659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12F6-D2D0-4710-AC99-DA1A215B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499F4-EE3D-4E2D-8EE0-BA15FE26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F1EFB-1A15-4EEF-8A18-AD1F7FCC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7AEFD-FE17-4577-B6A5-2D252814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C4291-CFF6-42EA-9DF7-04315682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47848-3012-4792-8E11-52F1AECB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559E9-F309-41F8-81DA-322758B4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D2C04-D00A-4A67-A8EE-18DD8A2E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6336A-0C60-43EC-B77E-4EA4626F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0A938-CCE9-4BD0-8984-CD8DC882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68577-2B8B-453C-AF70-7B46AB8B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9001-A208-4E54-B192-842082FE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E5EC5-D013-4EAB-904E-016BBDD4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E3E17-D59B-4A7E-8E76-55675C39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E40DC-CFCC-4A1C-A457-1464DEB6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C77C6-6B4A-40BB-8486-7F0829A5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D318B-9F55-4774-A145-E75A76B0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C62C4-5C0F-435A-98CD-56F8EA75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B4294-90E4-4DC1-8A93-389555EF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74E8C-027C-4661-B43B-B5A7D5CB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268AF-4A73-4465-8687-8B1BA6DB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A05AC-A2AE-40F5-A649-EC27393F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E3C5-790C-499C-8783-F16EE005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E39B7-0990-412F-82C3-D6332009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7D59C-3FC2-48E8-8EF5-328C8D12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4E7D1-59C8-47A5-91FA-5AE63572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F9110-DDD2-4D6B-B1C7-934E817A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357E0-A76A-410C-9DB8-14076906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243DB6-59E1-4E3B-B201-0B40E029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2A7D2-0944-4436-BE3E-C538A036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D40A5-C2E4-43DD-B5A8-106AFEA2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87223-A0AF-475E-9B28-6A9E5D2D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E845A-79B5-4EB2-8D96-0D7CD3BB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9D394-1D61-4D65-B154-B7A62808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17B4B-E36D-48F0-9E12-54AC65B7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EA2A8-32E0-431B-90F2-EF42B167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C750D-BA6B-469B-AB8D-35B690BF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81F09-110F-4F95-BC9C-9AA87C12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89A95D-3419-4C74-A3D4-0784F681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C630B8-7520-43E0-A067-18429873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F70A3C-BD0F-4D32-8930-76098700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82B7CC-BF75-4105-9A49-9685FEFE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37AC8C-0D90-4072-B943-89130A7B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8572BA-930F-43F7-826B-CFE98A3B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D41C-33E8-4638-B8F4-2C9EE20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BE9127-ED7F-4410-8287-C456E46F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4D6AC3-86AC-40F3-A63B-E6C8B034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DA6F67-1F6B-418F-8509-0FE77033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BF3018-AD24-40B3-A45C-2452D326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97F498-394C-4230-B8B4-D7D06CF3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B33808-D299-4E3C-9541-0EB9EE5B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E373D7-A1B7-45E5-B6EC-E9488AF9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DB1DE4-5A2F-44B9-96C7-6E3DDC2D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60C177-1308-4C2F-B8C6-50A4172A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63FDDA-E157-4B43-A443-3F225E1A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3F48-0D30-43F6-8668-19BFB5C423E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B1A6-681D-41CD-B2A9-A06A387333A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A492-C04D-4DFA-8A19-BE09BF40682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8B4C-1D4C-4F16-BA59-DB8399B0F69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B251-D75A-4DC3-8112-0018B274A4A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Conector reto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5AFB-6384-4051-AD77-1728A7D9BB09}" type="slidenum">
              <a:rPr b="0" lang="pt-BR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Conector reto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Conector reto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4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B496-B1EB-4E48-AF4D-58B4DD588DEC}" type="slidenum">
              <a:rPr b="0" lang="pt-BR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dt" idx="4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601F-9115-489A-963F-C35851D0A71E}" type="slidenum">
              <a:rPr b="0" lang="pt-BR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C095-9205-416C-9076-E49F2D42690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63D0-DA12-423F-A43A-3F36863F60E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367D-E83D-4EAF-97CD-B44725A307F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C21E-C446-4016-A833-FBBA09F9DAC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E823-C563-43B7-862B-E8E42143C57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E2DC-9746-4C58-8A91-E340F943847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4B22-5083-4E7E-B775-E3F0E1857C8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vanira@hernandesacoesesportivas.com.br" TargetMode="External"/><Relationship Id="rId3" Type="http://schemas.openxmlformats.org/officeDocument/2006/relationships/hyperlink" Target="mailto:vania-hernandes@hotmail.com" TargetMode="External"/><Relationship Id="rId4" Type="http://schemas.openxmlformats.org/officeDocument/2006/relationships/hyperlink" Target="http://lattes.cnpq.br/5060154719055619" TargetMode="External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CaixaDeTexto 2"/>
          <p:cNvSpPr/>
          <p:nvPr/>
        </p:nvSpPr>
        <p:spPr>
          <a:xfrm>
            <a:off x="468360" y="285264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erformance que o move, é a nossa maior inspi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ção e gestão de projetos desportivos, culturais e sociais. Leis de incentivo. Assessoria técnica e juríd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tângulo 9"/>
          <p:cNvSpPr/>
          <p:nvPr/>
        </p:nvSpPr>
        <p:spPr>
          <a:xfrm>
            <a:off x="738360" y="1700280"/>
            <a:ext cx="74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Pessoas Físicas podem deduzir até 6% do seu Imposto de Renda para investir em projetos aprov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 nossa legislação, as pessoas físicas que optam pela declaração do imposto de renda completa podem aproveitar os incentivos fiscais para doação apenas nos seguintes caso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ações aos fundos dos Direitos da Criança e do Adolescente (federal, estaduais e municipais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tinadas a projetos culturais e artísticos e audiovisu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tinadas a projetos despor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tângulo 5"/>
          <p:cNvSpPr/>
          <p:nvPr/>
        </p:nvSpPr>
        <p:spPr>
          <a:xfrm>
            <a:off x="755640" y="981000"/>
            <a:ext cx="741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ATROCÍNIO DE PESSOA FÍSICA PARA PROJE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tângulo 1"/>
          <p:cNvSpPr/>
          <p:nvPr/>
        </p:nvSpPr>
        <p:spPr>
          <a:xfrm>
            <a:off x="755640" y="907920"/>
            <a:ext cx="756144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 recursos serão destinados a projetos desportivos que contemp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ividades sócio-desportivas educacionais, ao desporto e paradespor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centradas nas seguint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 - Área Educacional: projetos voltados como disciplina ou ativ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xtracurricular desportiva no âmbito da educação básica, fundament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édio e superior promovendo atividades no contra turno escol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bjetivando o desenvolvimento integral do indivídu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I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de Formação Desportiva: projetos voltados para a inicia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envolvimento motor geral de crianças e adolescentes por meio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ática de atividades desportivas e físicas orientadas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tângulo 1"/>
          <p:cNvSpPr/>
          <p:nvPr/>
        </p:nvSpPr>
        <p:spPr>
          <a:xfrm>
            <a:off x="755640" y="836640"/>
            <a:ext cx="755964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II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de Rendimento: projetos que finalizem a formação e iniciem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ndimento desportivo, de forma técnica e metodológica, na área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reinamento desportivo, atendendo equipes e atletas com idade ig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u superior a 14 anos, vinculadas a entidades de práticas desportiva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bjetivando a formação e especialização, inclusive de alto rendimento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V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Sócio-Desportiva: projetos que utilizem o desporto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erramenta de inserção social, propiciando as pessoas de baixa re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portunidades para práticas desportiv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tângulo 1"/>
          <p:cNvSpPr/>
          <p:nvPr/>
        </p:nvSpPr>
        <p:spPr>
          <a:xfrm>
            <a:off x="755640" y="765000"/>
            <a:ext cx="755964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Área Participati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projetos voltados para ampla participação de pessoas em ev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portivos que evitem a seletividade e a hipercompetitividade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us  participantes, atendendo crianças, adolescentes, adultos, idos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essoas com deficiências, além de modalidades e respectivos públ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sintetizematividades físicas representativas de valores da nos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dentidade cultur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projetos voltados à distribuição gratuita de ingressos para ev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 caráter desportivo e paradesportivo por pessoa jurídica,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tegrantes da rede publica de ensino ou a integrantes de comun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 vulnerabilidade social, devidamente comprovadas na fu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stação de co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tângulo 1"/>
          <p:cNvSpPr/>
          <p:nvPr/>
        </p:nvSpPr>
        <p:spPr>
          <a:xfrm>
            <a:off x="755640" y="765000"/>
            <a:ext cx="755964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 -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Área de Gestão e Desenvolvimento Desportivo: projetos voltado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apacitação, treinamento, intercâmbios nacionais e internacionai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olsas de treinamento, objetivando atender técnicos, atleta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gestores desportivos buscando desenvolver e aperfeiçoar a gest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obre a administração, técnicas e equipamentos desportiv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I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de Infraestrutura: projetos voltados à construção, reforma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dequação de espaços, equipamentos e instalações desportivas, des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situados em próprios públic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Parágrafo único -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 É vedada a apresentação de projetos que preveja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cobrança de qualquer valor pecuniário aos beneficiário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CaixaDeTexto 3"/>
          <p:cNvSpPr/>
          <p:nvPr/>
        </p:nvSpPr>
        <p:spPr>
          <a:xfrm>
            <a:off x="784080" y="2273400"/>
            <a:ext cx="736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Não existe qualquer restrição quanto as modalidades esportivas, com exceção daquelas praticadas de modo profis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Todos os segmentos podem buscar os recursos incentivados (individual, coletiva, terrestre, aquática, hípica, motorizada, radical, de aventura, olímpica, não olímpica, paralímpica entre out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tângulo 2"/>
          <p:cNvSpPr/>
          <p:nvPr/>
        </p:nvSpPr>
        <p:spPr>
          <a:xfrm>
            <a:off x="784080" y="993600"/>
            <a:ext cx="76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MODALIDADE ESPORTIVA BENEFICI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CaixaDeTexto 3"/>
          <p:cNvSpPr/>
          <p:nvPr/>
        </p:nvSpPr>
        <p:spPr>
          <a:xfrm>
            <a:off x="781200" y="218916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adeira de Rodas (basquete, bocha, tên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porte para amputados (atletismo, artes marciais, mergulh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porte para prejudicados da visão (futebol de salão, jud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porte adaptados para paralisados cerbrais (ciclismo, hipism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etições próprias, como jogos Paralímpicos, e entidades específicas, como: Comitê Paralímpico Brasileiro (cpb) e Associação Desportiva para Deficientes (AD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tângulo 2"/>
          <p:cNvSpPr/>
          <p:nvPr/>
        </p:nvSpPr>
        <p:spPr>
          <a:xfrm>
            <a:off x="781200" y="1027080"/>
            <a:ext cx="76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ESPORTES ADAPTADOS</a:t>
            </a:r>
            <a:r>
              <a:rPr b="1" i="1" lang="en-US" sz="2400" spc="-1" strike="noStrike">
                <a:solidFill>
                  <a:srgbClr val="00007d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tângulo 2"/>
          <p:cNvSpPr/>
          <p:nvPr/>
        </p:nvSpPr>
        <p:spPr>
          <a:xfrm>
            <a:off x="781200" y="1657440"/>
            <a:ext cx="729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rática esportiva para pessoas com defici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tângulo 2"/>
          <p:cNvSpPr/>
          <p:nvPr/>
        </p:nvSpPr>
        <p:spPr>
          <a:xfrm>
            <a:off x="750960" y="1366920"/>
            <a:ext cx="8039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  <a:ea typeface="Calibri"/>
              </a:rPr>
              <a:t>Projeto de arquitetura assinado pelo </a:t>
            </a:r>
            <a:r>
              <a:rPr b="0" lang="pt-BR" sz="2000" spc="-1" strike="noStrike">
                <a:solidFill>
                  <a:srgbClr val="0d0d0d"/>
                </a:solidFill>
                <a:latin typeface="Calibri"/>
                <a:ea typeface="Calibri"/>
              </a:rPr>
              <a:t>proprietário e responsável técnico, com respectivos cortes e planta de situ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  <a:ea typeface="Calibri"/>
              </a:rPr>
              <a:t>A critério do engenheiro, que analisará a viabilidade do projeto, e da Caixa Econômica Federal, responsável pela fiscalização e execução do mesmo, poderão ser exigidos projetos de instalação, estrutura e fund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  <a:ea typeface="Calibri"/>
              </a:rPr>
              <a:t>Orçamento detalhado (planilha de preços unitários), que use como referência os preços praticados pelo Sistema Nacional de Pesquisa de Custos e Índices da Construção Civil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  <a:ea typeface="Calibri"/>
              </a:rPr>
              <a:t>  da Caixa Econômica Fed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  <a:ea typeface="Calibri"/>
              </a:rPr>
              <a:t>Não é permitido preço unitário com valor estimado, exceto projetos com valor abaixo de R$500.000,00 (quinhentos mil re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tângulo 2"/>
          <p:cNvSpPr/>
          <p:nvPr/>
        </p:nvSpPr>
        <p:spPr>
          <a:xfrm>
            <a:off x="750960" y="76500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ROJETOS DE INFRAESTRU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tângulo 2"/>
          <p:cNvSpPr/>
          <p:nvPr/>
        </p:nvSpPr>
        <p:spPr>
          <a:xfrm>
            <a:off x="709560" y="21798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tângulo 2"/>
          <p:cNvSpPr/>
          <p:nvPr/>
        </p:nvSpPr>
        <p:spPr>
          <a:xfrm>
            <a:off x="971640" y="85392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DOS PROJETOS DESPORTIVOS - 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tângulo de cantos arredondados 3"/>
          <p:cNvSpPr/>
          <p:nvPr/>
        </p:nvSpPr>
        <p:spPr>
          <a:xfrm>
            <a:off x="1252440" y="4076640"/>
            <a:ext cx="2089080" cy="827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Científica/Té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tângulo de cantos arredondados 11"/>
          <p:cNvSpPr/>
          <p:nvPr/>
        </p:nvSpPr>
        <p:spPr>
          <a:xfrm>
            <a:off x="6084720" y="4078440"/>
            <a:ext cx="2087640" cy="82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ENS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struir/Edu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tângulo de cantos arredondados 12"/>
          <p:cNvSpPr/>
          <p:nvPr/>
        </p:nvSpPr>
        <p:spPr>
          <a:xfrm>
            <a:off x="3627360" y="4565520"/>
            <a:ext cx="2089080" cy="8272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ST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Debate/Discus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esquisa/Anál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tângulo de cantos arredondados 13"/>
          <p:cNvSpPr/>
          <p:nvPr/>
        </p:nvSpPr>
        <p:spPr>
          <a:xfrm>
            <a:off x="6084720" y="2627280"/>
            <a:ext cx="2087640" cy="8272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R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tividade Espor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tângulo de cantos arredondados 14"/>
          <p:cNvSpPr/>
          <p:nvPr/>
        </p:nvSpPr>
        <p:spPr>
          <a:xfrm>
            <a:off x="1258920" y="2614680"/>
            <a:ext cx="2089080" cy="826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DESENVOLV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Expandir/Ampl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tend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tângulo de cantos arredondados 15"/>
          <p:cNvSpPr/>
          <p:nvPr/>
        </p:nvSpPr>
        <p:spPr>
          <a:xfrm>
            <a:off x="3654360" y="1787400"/>
            <a:ext cx="2089080" cy="8272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Executar/Prati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tângulo de cantos arredondados 16"/>
          <p:cNvSpPr/>
          <p:nvPr/>
        </p:nvSpPr>
        <p:spPr>
          <a:xfrm>
            <a:off x="3662280" y="3040200"/>
            <a:ext cx="2087640" cy="10364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ROJETO DESPOR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eta para baixo 4"/>
          <p:cNvSpPr/>
          <p:nvPr/>
        </p:nvSpPr>
        <p:spPr>
          <a:xfrm>
            <a:off x="4581360" y="4199040"/>
            <a:ext cx="209880" cy="26352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eta para baixo 18"/>
          <p:cNvSpPr/>
          <p:nvPr/>
        </p:nvSpPr>
        <p:spPr>
          <a:xfrm flipV="1">
            <a:off x="4594320" y="2775960"/>
            <a:ext cx="209520" cy="2221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eta para baixo 21"/>
          <p:cNvSpPr/>
          <p:nvPr/>
        </p:nvSpPr>
        <p:spPr>
          <a:xfrm flipV="1" rot="5400000">
            <a:off x="5868720" y="3635280"/>
            <a:ext cx="209520" cy="2221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eta para baixo 22"/>
          <p:cNvSpPr/>
          <p:nvPr/>
        </p:nvSpPr>
        <p:spPr>
          <a:xfrm flipV="1" rot="16200000">
            <a:off x="3346560" y="3598920"/>
            <a:ext cx="209880" cy="220680"/>
          </a:xfrm>
          <a:prstGeom prst="downArrow">
            <a:avLst>
              <a:gd name="adj1" fmla="val 50000"/>
              <a:gd name="adj2" fmla="val 499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upo 41"/>
          <p:cNvGrpSpPr/>
          <p:nvPr/>
        </p:nvGrpSpPr>
        <p:grpSpPr>
          <a:xfrm>
            <a:off x="539640" y="1052640"/>
            <a:ext cx="8183520" cy="4516200"/>
            <a:chOff x="539640" y="1052640"/>
            <a:chExt cx="8183520" cy="4516200"/>
          </a:xfrm>
        </p:grpSpPr>
        <p:sp>
          <p:nvSpPr>
            <p:cNvPr id="690" name="Retângulo 2"/>
            <p:cNvSpPr/>
            <p:nvPr/>
          </p:nvSpPr>
          <p:spPr>
            <a:xfrm>
              <a:off x="706320" y="1052640"/>
              <a:ext cx="762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d"/>
                  </a:solidFill>
                  <a:latin typeface="Calibri"/>
                </a:rPr>
                <a:t>FLUXOGRAMA DE TRAMITAÇÃO DOS PROJETOS DESPORTIV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tângulo de cantos arredondados 1"/>
            <p:cNvSpPr/>
            <p:nvPr/>
          </p:nvSpPr>
          <p:spPr>
            <a:xfrm>
              <a:off x="544320" y="1773360"/>
              <a:ext cx="1743120" cy="7920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laboração do 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tângulo de cantos arredondados 5"/>
            <p:cNvSpPr/>
            <p:nvPr/>
          </p:nvSpPr>
          <p:spPr>
            <a:xfrm>
              <a:off x="2711160" y="1773360"/>
              <a:ext cx="1743120" cy="7920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dastro do Proponente On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tângulo de cantos arredondados 6"/>
            <p:cNvSpPr/>
            <p:nvPr/>
          </p:nvSpPr>
          <p:spPr>
            <a:xfrm>
              <a:off x="4865400" y="1738440"/>
              <a:ext cx="1743120" cy="820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Conector reto 11"/>
            <p:cNvSpPr/>
            <p:nvPr/>
          </p:nvSpPr>
          <p:spPr>
            <a:xfrm>
              <a:off x="2417400" y="2241360"/>
              <a:ext cx="14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Conector reto 14"/>
            <p:cNvSpPr/>
            <p:nvPr/>
          </p:nvSpPr>
          <p:spPr>
            <a:xfrm>
              <a:off x="4578120" y="224136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6" name="Conector angulado 13"/>
            <p:cNvCxnSpPr/>
            <p:nvPr/>
          </p:nvCxnSpPr>
          <p:spPr>
            <a:xfrm flipV="1" rot="10800000">
              <a:off x="4487040" y="2564280"/>
              <a:ext cx="378360" cy="2782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7" name="Retângulo de cantos arredondados 15"/>
            <p:cNvSpPr/>
            <p:nvPr/>
          </p:nvSpPr>
          <p:spPr>
            <a:xfrm>
              <a:off x="2652480" y="270972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iss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éc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tângulo de cantos arredondados 21"/>
            <p:cNvSpPr/>
            <p:nvPr/>
          </p:nvSpPr>
          <p:spPr>
            <a:xfrm>
              <a:off x="539640" y="271476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cretari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ecu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9" name="Conector de seta reta 20"/>
            <p:cNvCxnSpPr/>
            <p:nvPr/>
          </p:nvCxnSpPr>
          <p:spPr>
            <a:xfrm flipH="1">
              <a:off x="2347560" y="2925360"/>
              <a:ext cx="2732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0" name="Retângulo de cantos arredondados 24"/>
            <p:cNvSpPr/>
            <p:nvPr/>
          </p:nvSpPr>
          <p:spPr>
            <a:xfrm>
              <a:off x="539640" y="378936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ligência a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pon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1" name="Conector de seta reta 40"/>
            <p:cNvCxnSpPr/>
            <p:nvPr/>
          </p:nvCxnSpPr>
          <p:spPr>
            <a:xfrm>
              <a:off x="1331280" y="3450960"/>
              <a:ext cx="1080" cy="338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2" name="Conector de seta reta 42"/>
            <p:cNvCxnSpPr/>
            <p:nvPr/>
          </p:nvCxnSpPr>
          <p:spPr>
            <a:xfrm flipV="1">
              <a:off x="1634400" y="3450600"/>
              <a:ext cx="1080" cy="322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3" name="Conector de seta reta 44"/>
            <p:cNvCxnSpPr/>
            <p:nvPr/>
          </p:nvCxnSpPr>
          <p:spPr>
            <a:xfrm>
              <a:off x="2358720" y="3141360"/>
              <a:ext cx="289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4" name="Conector de seta reta 46"/>
            <p:cNvCxnSpPr/>
            <p:nvPr/>
          </p:nvCxnSpPr>
          <p:spPr>
            <a:xfrm>
              <a:off x="3522240" y="3452400"/>
              <a:ext cx="1080" cy="338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5" name="Retângulo de cantos arredondados 47"/>
            <p:cNvSpPr/>
            <p:nvPr/>
          </p:nvSpPr>
          <p:spPr>
            <a:xfrm>
              <a:off x="2609640" y="379404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Conector de seta reta 48"/>
            <p:cNvCxnSpPr/>
            <p:nvPr/>
          </p:nvCxnSpPr>
          <p:spPr>
            <a:xfrm>
              <a:off x="3480840" y="458136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7" name="Retângulo de cantos arredondados 49"/>
            <p:cNvSpPr/>
            <p:nvPr/>
          </p:nvSpPr>
          <p:spPr>
            <a:xfrm>
              <a:off x="2620800" y="492120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união de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t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8" name="Conector de seta reta 36879"/>
            <p:cNvCxnSpPr/>
            <p:nvPr/>
          </p:nvCxnSpPr>
          <p:spPr>
            <a:xfrm flipV="1">
              <a:off x="4395600" y="4114440"/>
              <a:ext cx="465840" cy="80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9" name="Retângulo de cantos arredondados 57"/>
            <p:cNvSpPr/>
            <p:nvPr/>
          </p:nvSpPr>
          <p:spPr>
            <a:xfrm>
              <a:off x="4951440" y="347040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rov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tângulo de cantos arredondados 58"/>
            <p:cNvSpPr/>
            <p:nvPr/>
          </p:nvSpPr>
          <p:spPr>
            <a:xfrm>
              <a:off x="4951440" y="419436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rov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tângulo de cantos arredondados 59"/>
            <p:cNvSpPr/>
            <p:nvPr/>
          </p:nvSpPr>
          <p:spPr>
            <a:xfrm>
              <a:off x="4951440" y="492120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jei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2" name="Conector de seta reta 60"/>
            <p:cNvCxnSpPr/>
            <p:nvPr/>
          </p:nvCxnSpPr>
          <p:spPr>
            <a:xfrm flipV="1">
              <a:off x="4395240" y="4670640"/>
              <a:ext cx="470520" cy="250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Conector de seta reta 63"/>
            <p:cNvCxnSpPr>
              <a:endCxn id="711" idx="1"/>
            </p:cNvCxnSpPr>
            <p:nvPr/>
          </p:nvCxnSpPr>
          <p:spPr>
            <a:xfrm>
              <a:off x="4395240" y="4920840"/>
              <a:ext cx="556200" cy="324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4" name="Retângulo de cantos arredondados 69"/>
            <p:cNvSpPr/>
            <p:nvPr/>
          </p:nvSpPr>
          <p:spPr>
            <a:xfrm>
              <a:off x="6980040" y="347040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ublic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tângulo de cantos arredondados 70"/>
            <p:cNvSpPr/>
            <p:nvPr/>
          </p:nvSpPr>
          <p:spPr>
            <a:xfrm>
              <a:off x="6980040" y="451800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edido de Reconsider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tângulo de cantos arredondados 79"/>
            <p:cNvSpPr/>
            <p:nvPr/>
          </p:nvSpPr>
          <p:spPr>
            <a:xfrm>
              <a:off x="5711760" y="2719440"/>
              <a:ext cx="2460600" cy="6476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ocument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bertura C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upo 36"/>
            <p:cNvGrpSpPr/>
            <p:nvPr/>
          </p:nvGrpSpPr>
          <p:grpSpPr>
            <a:xfrm>
              <a:off x="5220720" y="3018240"/>
              <a:ext cx="422280" cy="353160"/>
              <a:chOff x="5220720" y="3018240"/>
              <a:chExt cx="422280" cy="353160"/>
            </a:xfrm>
          </p:grpSpPr>
          <p:sp>
            <p:nvSpPr>
              <p:cNvPr id="718" name="Conector reto 33"/>
              <p:cNvSpPr/>
              <p:nvPr/>
            </p:nvSpPr>
            <p:spPr>
              <a:xfrm flipV="1">
                <a:off x="5220720" y="3018600"/>
                <a:ext cx="0" cy="352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9" name="Conector de seta reta 35"/>
              <p:cNvCxnSpPr/>
              <p:nvPr/>
            </p:nvCxnSpPr>
            <p:spPr>
              <a:xfrm>
                <a:off x="5220720" y="3018240"/>
                <a:ext cx="4226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720" name="Grupo 39"/>
            <p:cNvGrpSpPr/>
            <p:nvPr/>
          </p:nvGrpSpPr>
          <p:grpSpPr>
            <a:xfrm>
              <a:off x="8195400" y="3018600"/>
              <a:ext cx="320040" cy="432360"/>
              <a:chOff x="8195400" y="3018600"/>
              <a:chExt cx="320040" cy="432360"/>
            </a:xfrm>
          </p:grpSpPr>
          <p:cxnSp>
            <p:nvCxnSpPr>
              <p:cNvPr id="721" name="Conector de seta reta 85"/>
              <p:cNvCxnSpPr/>
              <p:nvPr/>
            </p:nvCxnSpPr>
            <p:spPr>
              <a:xfrm>
                <a:off x="8494560" y="3018600"/>
                <a:ext cx="1080" cy="4327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22" name="Conector reto 87"/>
              <p:cNvSpPr/>
              <p:nvPr/>
            </p:nvSpPr>
            <p:spPr>
              <a:xfrm>
                <a:off x="8195400" y="3018600"/>
                <a:ext cx="32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upo 93"/>
            <p:cNvGrpSpPr/>
            <p:nvPr/>
          </p:nvGrpSpPr>
          <p:grpSpPr>
            <a:xfrm>
              <a:off x="6800760" y="4293720"/>
              <a:ext cx="620640" cy="225720"/>
              <a:chOff x="6800760" y="4293720"/>
              <a:chExt cx="620640" cy="225720"/>
            </a:xfrm>
          </p:grpSpPr>
          <p:cxnSp>
            <p:nvCxnSpPr>
              <p:cNvPr id="724" name="Conector de seta reta 94"/>
              <p:cNvCxnSpPr/>
              <p:nvPr/>
            </p:nvCxnSpPr>
            <p:spPr>
              <a:xfrm>
                <a:off x="7420680" y="4293720"/>
                <a:ext cx="1080" cy="226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25" name="Conector reto 95"/>
              <p:cNvSpPr/>
              <p:nvPr/>
            </p:nvSpPr>
            <p:spPr>
              <a:xfrm>
                <a:off x="6800760" y="4309560"/>
                <a:ext cx="620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upo 96"/>
            <p:cNvGrpSpPr/>
            <p:nvPr/>
          </p:nvGrpSpPr>
          <p:grpSpPr>
            <a:xfrm>
              <a:off x="6827760" y="5244480"/>
              <a:ext cx="620640" cy="216360"/>
              <a:chOff x="6827760" y="5244480"/>
              <a:chExt cx="620640" cy="216360"/>
            </a:xfrm>
          </p:grpSpPr>
          <p:cxnSp>
            <p:nvCxnSpPr>
              <p:cNvPr id="727" name="Conector de seta reta 97"/>
              <p:cNvCxnSpPr/>
              <p:nvPr/>
            </p:nvCxnSpPr>
            <p:spPr>
              <a:xfrm flipV="1">
                <a:off x="7447680" y="5244480"/>
                <a:ext cx="1080" cy="2167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28" name="Conector reto 98"/>
              <p:cNvSpPr/>
              <p:nvPr/>
            </p:nvSpPr>
            <p:spPr>
              <a:xfrm>
                <a:off x="6827760" y="5445000"/>
                <a:ext cx="620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4"/>
          <p:cNvSpPr/>
          <p:nvPr/>
        </p:nvSpPr>
        <p:spPr>
          <a:xfrm>
            <a:off x="1042920" y="1065240"/>
            <a:ext cx="383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OS INCENTIVOS FISC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tângulo 9"/>
          <p:cNvSpPr/>
          <p:nvPr/>
        </p:nvSpPr>
        <p:spPr>
          <a:xfrm>
            <a:off x="1042920" y="1773360"/>
            <a:ext cx="684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centivos fiscais são instrumentos utilizados pelo governo para estimular atividades específicas, por prazo determinado (projet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xistem incentivos que facilitam a transferência de recursos para atividades relacionadas ao Terceiro Setor, com o objetivo de fortalecer o tecido social do Paí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ses incentivos são importantes ferramentas para a consolidação da sustentação-financeira das entidades sem fins lucra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CaixaDeTexto 3"/>
          <p:cNvSpPr/>
          <p:nvPr/>
        </p:nvSpPr>
        <p:spPr>
          <a:xfrm>
            <a:off x="749160" y="1484280"/>
            <a:ext cx="7920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Qual sua missão enquanto entidade despor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Quais seus objetivos de curto, médio e longo prazo (planejamen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Qual é sua capacidade de ação própria (condição física, material, humana e financeir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Histórico de atuação (realizaçõ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uas alianças estratégicas (parceria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eu papel no cenário desportivo (local. Regional, estadual, nacional, internacion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eu segmento de atuação (entidade de administração ou prática desportiv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eu foco quanto a natureza e finalidade do desporto (educacional, participativo ou rendimen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Modalidade e faixa sócioeconômica que deseja alcanç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tângulo 2"/>
          <p:cNvSpPr/>
          <p:nvPr/>
        </p:nvSpPr>
        <p:spPr>
          <a:xfrm>
            <a:off x="749160" y="907920"/>
            <a:ext cx="76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Calibri"/>
              </a:rPr>
              <a:t>PROPON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upo 2"/>
          <p:cNvGrpSpPr/>
          <p:nvPr/>
        </p:nvGrpSpPr>
        <p:grpSpPr>
          <a:xfrm>
            <a:off x="6480" y="15840"/>
            <a:ext cx="9137520" cy="6858000"/>
            <a:chOff x="6480" y="15840"/>
            <a:chExt cx="9137520" cy="6858000"/>
          </a:xfrm>
        </p:grpSpPr>
        <p:pic>
          <p:nvPicPr>
            <p:cNvPr id="732" name="Picture 2" descr="E:\HERNANDES AÇÕES ESPORTIVA\FUNDO DE TELA HERNANDES\fundo de tela power point Hernandes - fechamento - sem nome.jpg"/>
            <p:cNvPicPr/>
            <p:nvPr/>
          </p:nvPicPr>
          <p:blipFill>
            <a:blip r:embed="rId1"/>
            <a:stretch/>
          </p:blipFill>
          <p:spPr>
            <a:xfrm>
              <a:off x="6480" y="15840"/>
              <a:ext cx="91375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CaixaDeTexto 6"/>
            <p:cNvSpPr/>
            <p:nvPr/>
          </p:nvSpPr>
          <p:spPr>
            <a:xfrm>
              <a:off x="539640" y="3085920"/>
              <a:ext cx="424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Vanira Hernandes de Sou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estora de 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666699"/>
                  </a:solidFill>
                  <a:uFillTx/>
                  <a:latin typeface="Calibri"/>
                  <a:ea typeface="Calibri"/>
                  <a:hlinkClick r:id="rId2"/>
                </a:rPr>
                <a:t>vanira@hernandesacoesesportivas.com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|15. 98117-3637 | 11. 98238-390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CaixaDeTexto 8"/>
            <p:cNvSpPr/>
            <p:nvPr/>
          </p:nvSpPr>
          <p:spPr>
            <a:xfrm>
              <a:off x="4637880" y="2997000"/>
              <a:ext cx="4392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Vânia Hernandes de Sou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a. Pedagógia e Psicólogia do E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 u="sng">
                  <a:solidFill>
                    <a:srgbClr val="666699"/>
                  </a:solidFill>
                  <a:uFillTx/>
                  <a:latin typeface="Calibri"/>
                  <a:ea typeface="Calibri"/>
                  <a:hlinkClick r:id="rId3"/>
                </a:rPr>
                <a:t>vania-hernandes@uol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 u="sng">
                  <a:solidFill>
                    <a:srgbClr val="666699"/>
                  </a:solidFill>
                  <a:uFillTx/>
                  <a:latin typeface="Calibri"/>
                  <a:ea typeface="Calibri"/>
                  <a:hlinkClick r:id="rId4"/>
                </a:rPr>
                <a:t>http://lattes.cnpq.br/5060154719055619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15. 98117-90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tângulo 7"/>
            <p:cNvSpPr/>
            <p:nvPr/>
          </p:nvSpPr>
          <p:spPr>
            <a:xfrm>
              <a:off x="3643200" y="5494320"/>
              <a:ext cx="1944720" cy="288720"/>
            </a:xfrm>
            <a:prstGeom prst="rect">
              <a:avLst/>
            </a:prstGeom>
            <a:solidFill>
              <a:srgbClr val="e1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7f7f7f"/>
                  </a:solidFill>
                  <a:latin typeface="Arial"/>
                </a:rPr>
                <a:t>11. 2338-50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CaixaDeTexto 1"/>
            <p:cNvSpPr/>
            <p:nvPr/>
          </p:nvSpPr>
          <p:spPr>
            <a:xfrm>
              <a:off x="539640" y="5950080"/>
              <a:ext cx="8280360" cy="580680"/>
            </a:xfrm>
            <a:prstGeom prst="rect">
              <a:avLst/>
            </a:prstGeom>
            <a:solidFill>
              <a:srgbClr val="e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7f7f7f"/>
                  </a:solidFill>
                  <a:latin typeface="Arial"/>
                </a:rPr>
                <a:t>Atendimento: Avenida Vereador Abel Ferreira nº 1950 | Vila Regente Feijó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7f7f7f"/>
                  </a:solidFill>
                  <a:latin typeface="Arial"/>
                </a:rPr>
                <a:t>São Paulo – SP | CEP: 03340-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4"/>
          <p:cNvSpPr/>
          <p:nvPr/>
        </p:nvSpPr>
        <p:spPr>
          <a:xfrm>
            <a:off x="806400" y="1125360"/>
            <a:ext cx="383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OS INCENTIVOS FISC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tângulo 9"/>
          <p:cNvSpPr/>
          <p:nvPr/>
        </p:nvSpPr>
        <p:spPr>
          <a:xfrm>
            <a:off x="806400" y="1989000"/>
            <a:ext cx="741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Governo adotou o mecanismo de renúncia ﬁscal para incentivar a cultura, o esporte e o desenvolvimento social. Ou seja, o Governo abre mão da arrecadação de parte dos impostos (PF e PJ) para destinar a projetos relevantes e capazes de promover o desenvolvimento da socie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isso, as empresas têm a oportunidade de investir uma parte dos impostos para projetos culturais, esportivos e sociais à sua escolh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582480" y="1916280"/>
            <a:ext cx="7905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Lei nº 8.313/1991  - Lei Rouan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Legislações estaduais – ICM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Convênio SINCO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Convênio Esporte Social - Secretaria de Esportes Estado de São Pau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Convênio de Projetos e Eventos Esportivos Entidades e Prefeitu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Projetos pelo Comitê Brasileiro de Clubes na Formação de Atletas Olímpicos e Paraolímpicos Lei nº  9.615/98 - (0,5% de toda a verba arrecadada nos concursos de prognósticos feder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"/>
          <p:cNvSpPr/>
          <p:nvPr/>
        </p:nvSpPr>
        <p:spPr>
          <a:xfrm>
            <a:off x="722160" y="1085760"/>
            <a:ext cx="762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OSSIBILIDADES DE APOIO FOMENTADOS COM RECURSOS DAS LEIS DE INCEN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tângulo 1"/>
          <p:cNvSpPr/>
          <p:nvPr/>
        </p:nvSpPr>
        <p:spPr>
          <a:xfrm>
            <a:off x="617400" y="1628640"/>
            <a:ext cx="772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Objetivo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Usar parte do imposto recolhido no Estado e investir em várias modalidades esportivas, inclusão social e na formação de novos atletas, contemplando modalidades tanto individuais quanto coletiv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Segmentos Espor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Gestão, Formação Desportiva, Participativa, Rendimento, Educacional, Sócio  Desportiva e de infraestru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Regulador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cretaria de Esporte, Lazer e Juventude do Estado de São Pa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Quem pode receber incentivo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stituições sem fins lucrativos que tenham natureza desportiv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e no mínimo 3 (três) ano em funcionamento, que  captará  os recursos  e  fará  a  gestão do projeto,  sendo  indelegável  sua responsabilidade pela apresentação, execução  e  prestação de co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tângulo 2"/>
          <p:cNvSpPr/>
          <p:nvPr/>
        </p:nvSpPr>
        <p:spPr>
          <a:xfrm>
            <a:off x="617400" y="101268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LEI PAULISTA DE INCENTIVO AO ESPORTE PIE -ICMS (Lei nº 13.918/09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Imagem 5" descr=""/>
          <p:cNvPicPr/>
          <p:nvPr/>
        </p:nvPicPr>
        <p:blipFill>
          <a:blip r:embed="rId1"/>
          <a:stretch/>
        </p:blipFill>
        <p:spPr>
          <a:xfrm>
            <a:off x="6948360" y="125280"/>
            <a:ext cx="2044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tângulo 1"/>
          <p:cNvSpPr/>
          <p:nvPr/>
        </p:nvSpPr>
        <p:spPr>
          <a:xfrm>
            <a:off x="617400" y="1628640"/>
            <a:ext cx="8131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Quantidade de Projetos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Cada proponente poderá apresentar até 03 projetos, desde que estes somados não ultrapassem o valor global de 60.901 UFE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mo funciona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Abatimento de 100% do valor incentivado até o limite de 3%* do ICMS devido pela Pessoa Jurídica.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Ex.: Se uma empresa paga R$ 5 milhões de ICMS por mês ao governo, poderá destinar R$ 150 mil para incentivar e patrocinar mensalmente um projeto esportivo, obtendo as contrapartidas de exposição de um patrocínio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*Conforme tabela decrescente de alíquotas, dependendo do montante do ICMS à recol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**Não compete com outros incen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tângulo 2"/>
          <p:cNvSpPr/>
          <p:nvPr/>
        </p:nvSpPr>
        <p:spPr>
          <a:xfrm>
            <a:off x="617400" y="101268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LEI PAULISTA DE INCENTIVO AO ESPORTE PIE -ICMS (Lei nº 13.918/09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Imagem 5" descr=""/>
          <p:cNvPicPr/>
          <p:nvPr/>
        </p:nvPicPr>
        <p:blipFill>
          <a:blip r:embed="rId1"/>
          <a:stretch/>
        </p:blipFill>
        <p:spPr>
          <a:xfrm>
            <a:off x="6948360" y="125280"/>
            <a:ext cx="2044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4"/>
          <p:cNvSpPr/>
          <p:nvPr/>
        </p:nvSpPr>
        <p:spPr>
          <a:xfrm>
            <a:off x="515880" y="944640"/>
            <a:ext cx="84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3f"/>
                </a:solidFill>
                <a:latin typeface="Calibri"/>
              </a:rPr>
              <a:t>LEI FEDERAL DE INCENTIVO AO ESPORTE  (LEI Nº 8.313/91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tângulo 9"/>
          <p:cNvSpPr/>
          <p:nvPr/>
        </p:nvSpPr>
        <p:spPr>
          <a:xfrm>
            <a:off x="500040" y="1773360"/>
            <a:ext cx="8070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Projetos desportivos e paradespor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gulador: Ministério do Esp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Quem pode receber incentiv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Instituições sem fins lucrativos que tenham natureza desportiva com CNPJ constituído há 1(um) 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Como funcion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Abatimento de 100% do valor incentivado até o limite de 1% do Imposto de Renda devido pela Pessoa Jurídica (tributada em Lucro Real) e 6% pela Pessoa Fís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Empresas em potencia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Multinacionais, conglomerados dos setores bancário, industrial, de transporte aéreo e empresas de telecomunic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tângulo 4"/>
          <p:cNvSpPr/>
          <p:nvPr/>
        </p:nvSpPr>
        <p:spPr>
          <a:xfrm>
            <a:off x="684360" y="1700280"/>
            <a:ext cx="792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A Lei de Incentivo ao Esporte Federal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ermite que patrocínios e doações para a realização de projetos desportivos sejam descontados do imposto de renda dev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Segmentos Espor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Gestão, Formação Desportiva, Participativa, Rendimento, Educacional, Sócio  Desportiva e de infraestru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Quantidade de Projetos: </a:t>
            </a: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A Lei limita a 6 (seis)  projetos por ano,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      </a:t>
            </a: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um mesmo pro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tângulo 2"/>
          <p:cNvSpPr/>
          <p:nvPr/>
        </p:nvSpPr>
        <p:spPr>
          <a:xfrm>
            <a:off x="684360" y="92376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LEI FEDERAL DE INCENTIVO AO ESPORTE  (Lei Nº 8.313/91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https://esportelegal.files.wordpress.com/2012/07/logoleiincentivom.png"/>
          <p:cNvPicPr/>
          <p:nvPr/>
        </p:nvPicPr>
        <p:blipFill>
          <a:blip r:embed="rId1"/>
          <a:stretch/>
        </p:blipFill>
        <p:spPr>
          <a:xfrm>
            <a:off x="8028000" y="55440"/>
            <a:ext cx="100800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tângulo 9"/>
          <p:cNvSpPr/>
          <p:nvPr/>
        </p:nvSpPr>
        <p:spPr>
          <a:xfrm>
            <a:off x="633240" y="1700280"/>
            <a:ext cx="7456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s pessoas jurídicas podem utilizar dos benefícios fiscais  nas doações par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) para entidades civis, sem fins lucrativos, de Utilidade Pública Federal e qualificadas como OSCIPs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) para instituições de ensino e pesquisa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) destinadas a projetos culturais, artísticos e audiovisuais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) para os Fundos dos Direitos da Criança e do Adolescente (feder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taduais e municipais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) destinadas a projetos desportiv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tângulo 1"/>
          <p:cNvSpPr/>
          <p:nvPr/>
        </p:nvSpPr>
        <p:spPr>
          <a:xfrm>
            <a:off x="633240" y="104616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ATROCÍNIO DE PESSOA JURÍDICA PARA PROJETOS PELA LEI FED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" descr="https://esportelegal.files.wordpress.com/2012/07/logoleiincentivom.png"/>
          <p:cNvPicPr/>
          <p:nvPr/>
        </p:nvPicPr>
        <p:blipFill>
          <a:blip r:embed="rId1"/>
          <a:stretch/>
        </p:blipFill>
        <p:spPr>
          <a:xfrm>
            <a:off x="8028000" y="44280"/>
            <a:ext cx="100800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2:52:57Z</dcterms:created>
  <dc:creator>Vanira</dc:creator>
  <dc:description/>
  <dc:language>en-US</dc:language>
  <cp:lastModifiedBy>Celso Cordeiro</cp:lastModifiedBy>
  <cp:lastPrinted>2017-07-20T11:00:00Z</cp:lastPrinted>
  <dcterms:modified xsi:type="dcterms:W3CDTF">2017-08-24T18:37:54Z</dcterms:modified>
  <cp:revision>617</cp:revision>
  <dc:subject/>
  <dc:title>Slide 1</dc:title>
</cp:coreProperties>
</file>